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8D3E-7AD7-4E8F-B2DA-81099265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9C6-9686-4A45-A487-5085D2F5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ACC0-92F1-498E-8FBE-FA334B34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5F4D-560C-4A29-96A0-793EF526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5E8A-98ED-4F2E-AF49-3D4C14AA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1863-C9D7-46DC-AF76-24A0E397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A0FC-7EF4-48B3-97FB-85BE095C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E63A-C00A-40B3-8202-A40F1366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08C6-D2FD-404F-A42F-ADAECBDD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5CE6-3C59-40E2-8578-F025FABB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49BE-906A-4115-B650-39E51887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1C9F-3E05-4768-8464-9429B65B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120D-33F6-4F44-9543-65437956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96AC-ECB6-4B23-A94E-8980C94E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9C10-452B-438B-85D6-32C9F7CE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953A-CB90-495A-8019-83A024AC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453C-1187-4E1A-97AD-26D3A9BB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CD2B-0DC4-483F-9D0D-798ADF1C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DF8-9E3F-4FF4-B3EF-56E47FCE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5C1-FA9E-487F-95A9-29B7854F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B02-95E0-413F-B637-FD748429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E51-D982-405D-84A5-E8D1CBB8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277D-0E29-4E38-851B-9E9EDA7B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43B1-4130-4F69-8C0A-AB83D7BB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4ED8-793D-441C-AED7-4C41183377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2A45-D082-4266-A5AA-0969C09C6C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CVT</cp:lastModifiedBy>
  <dcterms:modified xsi:type="dcterms:W3CDTF">2006-08-30T14:24:34Z</dcterms:modified>
  <cp:revision>196</cp:revision>
  <dc:subject/>
  <dc:title>Parallel communicating (PC) grammar systems</dc:title>
</cp:coreProperties>
</file>